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A527-C09D-4708-BFB0-492F8FD58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95C7-4A71-47ED-B12D-2BE0D9CC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7C464-1F65-4F5C-8ABB-680289B9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4BC8D-A60A-4DAC-86B6-0AD68B05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91709-1CF9-45D6-9A16-D4D7D101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FFDDA-FAB2-4256-B696-85E97F32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4F369-6BED-47B4-9CB6-23B5C699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D3ACE-45FD-4616-BE0D-661A6BDE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E95D4-CEE4-4E6C-BFE6-2B5FB55D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3F1BC-3522-4163-9802-C5BECE5CD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C15E9A-8D05-4450-BB7C-C12738726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0C6178-C05F-4D6B-9533-B01905C6E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0956-290D-430E-B1FC-37369438C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399DC-1779-423A-B717-9707BF86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985510-011F-4D7E-BF32-F3F9F609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3569D-04F2-4C1F-BC2E-693817D3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F47CD5-0C63-4F37-A4A4-024A0980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76631-2F9B-4209-8CB8-A74AE30C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42A4CE-8EFF-4C1B-A562-02A28300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D3E941-A03A-4C14-B31B-8A5A5AC0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D2054-0B61-4363-A190-6AF3FC55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0A43D-4B98-4E51-AC1B-44FDB054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74E843-7314-4634-9FD3-F5C5A3D8F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BA85-71DE-4B75-8B86-C6D3F6FE5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3A97F-F44A-4CC5-8E15-59088CCFF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4F38E-9338-4635-B51C-C3B12CFE2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7F6AC-5E95-4D57-99CE-F7D64E55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3BF8A-D686-4571-8379-11681666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ABC17-9021-4787-A926-DB06BF16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3FC04-24D7-4B47-9D16-2728D016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E58C6-9BD4-4A59-BFE0-2D6D32A1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BBB00-D4C3-4999-8448-C991D111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B8749-6307-4DD4-A8FF-72094358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9DE91-5A44-4798-9665-271ABCB2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4AC5-B853-49BC-B03D-3A565095F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21AEB-2888-47A0-A6D7-0C9AB68F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19F1E-1D17-4AA3-BC74-7107264D8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1F032-9B81-4D7D-8F9D-B8B2F6A41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B091C4-453E-4A34-87A9-62293EC84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FA9132-FE91-4FEA-A60D-2F5BA369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184FE0-D1F3-4598-9726-9EC56D10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0041CF-3B94-462F-BEE1-39F824CC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320687-896A-4CE0-B0E1-A7856BC0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DE715A-1B43-4280-97DB-377CB04A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495934-EB07-4B9B-81FB-0BC2B7EB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D8B6-1CB2-4FCD-A0F2-02F4DB29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DA6C6-2872-41A1-A2ED-3FA29FCB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A0B780-CCBC-4A71-87BE-B76E21A4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190F74-AC20-43FF-82CA-27FA5EB1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C5DDF0-9F38-483D-B2BE-5E8174607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0913D4-F92B-4047-A071-D3F078ABC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6589-0980-4AF4-9098-0754C776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5CDE-B62D-4EFB-A467-21A834C5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9704-3681-4BE4-A4DB-D058D537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81B3-0A07-4D98-9477-6A2CA140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5E93-67BE-40D9-A94A-BF55D640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3394-F212-42BE-8D4A-7D1A9281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49C7-CC83-466E-B8FC-3E9EA845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F852-5083-414C-A2C9-50B8AF4D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90D4-7F69-422A-94AC-B3A107D9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262C-1DB1-42D4-BC18-3FB9713BF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07D9-D1C1-4ADD-9FB6-52E2FB433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A3C6D-64AD-4328-BC19-D8B42A342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4833B-2065-4A31-858A-978303C6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A24D1-7811-4CFE-AA40-FBC78F0B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090E8-76FF-4BE0-B12F-74745558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4D9AB-6974-4704-B6ED-C879890B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481C-F786-404E-8E79-24116E36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7EBB7-37FE-441E-A6DF-ECF7CA19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73440-4FB2-4F5F-A849-DA4B33E4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560E6-BEAF-4BE1-B4A6-ED6549C7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7CE45-4ABC-443A-98B8-30DE7608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C4F8A-B6CF-4322-AA78-64B340FD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8A5C1-BF9D-4B87-9150-4B18E266C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9D9E4-081A-43FF-A772-7CC0161A7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5BCDC-CFA3-4BE6-82DF-0A21C138D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4AD31-27A3-4E71-BFBD-83CEDBA5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370D3-AF62-4A0E-B026-FD19B440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22CB-A2EE-48F9-AF7C-39EFA069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BC9E8-3413-4ABE-A851-A09F760E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CB28A-4965-43A4-905C-0A4699DC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20B1A-3D52-4AE5-BEA0-67BF0B0D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D6EDF-249E-4587-BFD3-024C3771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56844-A33F-4F70-B667-4B43BDC8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A2A9A-C499-4B82-B116-F7EC751F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A5443-C1D2-4221-988D-8C903988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317D7-3C0E-406E-8618-6C0FDDED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D552E-BA1C-4BD5-B4A0-D2E8590ED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A49A9-2A40-4096-AC76-DB71F0571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49D4-74D2-4766-A66E-2401CEE5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5D16A-65C2-46F0-A171-250E2778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3EC19-7799-4C69-8F24-3C2D1F70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349EB-B719-4D08-B478-EBB46B03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4E500-DA48-4F7A-A163-60B1B8CB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51458-11C6-4686-BC8F-357228FA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BCE7E-2A3F-4087-B749-AEDB7A43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34D60-D4FC-42D0-A0F8-8CED3D4F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FBDE8-42B3-43A8-B3FC-214F32C2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C3B94-047C-42DA-8EE2-E516C290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D3EAD-7436-46D2-B27B-E2A4D9B48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F1AD-A726-447F-AB0B-D5B4F48C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BC133-2509-42D6-9D5D-1E5C06BCC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EB92A-DB3F-484E-901B-FF78985E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EAF8A-2230-4D32-92E9-5DE4ECCF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6354A-D3A6-484E-AEC1-C42B9035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F7CDC-164A-4B69-BE8B-2D6ECA87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0DEB5-63AB-4DFD-901B-09C8FF58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E691A-E46F-4758-B096-76F48945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8D9B8-4293-416B-A672-4191E904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86366-3FDC-4D1A-84FE-8359E258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D795E-2C67-432F-B1E2-CE001B87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7889-9E0D-4B2D-A31D-A2A636CA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19F1C-4BB0-4B0D-9EBF-468B9A72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9E556-3EA9-4F23-A9DD-4D8A8F0B0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E831C-C64D-49BC-9DEF-AE37CF332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41C00-52D8-4261-996C-B1EAE1EB0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A894E-FA23-4E88-B2ED-24E9AC0A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C01C4-BBB3-4D36-ACF2-B25E647D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1AB96-BF23-48DE-B46D-9A8CD969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7A99A-7D9F-4276-80C6-3ACD9287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53BA5-701A-42E5-B09C-DC310096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C5EED-48B5-445C-8FAF-050D48DE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C274-B056-4C2E-B65D-7DF9FFAE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4A3D1-0B21-4C8E-8586-E07746A5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AEA69-25F4-40D7-A2EC-56971220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BFC8C-C773-4463-8896-60473A74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9644F-6043-4911-8C30-C011AB3F3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1AFC8-5891-4818-8CEB-EC31F6B25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85D80-B5D9-457F-9AC2-66420A82B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61B0C-18C2-4C2D-A327-E7A75D84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57106-DB2A-44AF-8B68-0A3213D4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26123-0563-44B7-88EF-0F686284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C5ECE-3813-4EE4-A20D-829759FC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A0E5-47B9-4467-93F8-1A8FAEFD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6E161-5FBF-4EBB-98BE-B53AE34E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04611-CE6A-421C-A46B-8510AB6F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F6857-81A8-4EDE-AA21-D15EEC1A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D38D4-38AF-4CF6-B719-ABBE4ACB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6AC8E-96C0-4CD4-AA85-2C4BBBA9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C7AF9-5BF9-47B8-8ABA-032283C5D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F9A4B-BCDD-42FE-967F-2F097D6B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2A3158-5931-46C3-A442-E1ABBC594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6B950-2A75-4A09-8694-B49F8035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3E65F-E0FD-4963-B4AA-D8F9E03F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3D89-9FA1-450F-A242-2E00AB1D52E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9637-AE8C-4DE2-8FF8-636672935D5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B888-BE5A-42B6-97A2-B8EA0B88ED6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E2EC-FD77-40C3-99DB-0EBE6B2F9F5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F290-8E7F-4E7C-AB58-738FAF01EE3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7439-A066-4404-875C-5137050D171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F90A-3FE9-4E9C-A01C-C72C3F8AD27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41E1-F3A4-491E-BC32-C79300AA162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3DEB-F851-4934-9464-AD634966CDC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317F-7CED-4752-8656-1FB06C8BE63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0F0A-DD8F-43D3-B866-7353226C4C9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9153-976B-490E-99EE-831A260FAAC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8 Náš Bože sláv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1026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š Bože slávn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emocný náš Krá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ráhy si hviezda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kvostným vymera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gavým lesk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esť ti vzdávajú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kazy vôle tvojej spĺňaj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dávnych čia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i ľud svoj viedol s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ľavou púšt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diaľnym konči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edlivým strážc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siaľ si aj 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avo stál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s moc tvoja chráň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loba chce oheň skaz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nás zvi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rákavou prikry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hasnúť svetlo hviez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ier, Pane, vrá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lom vládu hriechu v n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útrapy miern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do ríše kr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úžení vier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tebe kotviť m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ty si spása naša jediná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u, čo dávaš dosiaľ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etu zn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m, Pane, pomôž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rne zvestova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3T18:30:13Z</dcterms:modified>
  <cp:revision>22</cp:revision>
  <dc:subject/>
  <dc:title>Je veľký náš Pán, on slávy je Kráľ Nech do všetkých strán  spev vrúcnych znie chvál.</dc:title>
</cp:coreProperties>
</file>